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media/image9.jpeg" ContentType="image/jpeg"/>
  <Override PartName="/ppt/media/image4.jpeg" ContentType="image/jpeg"/>
  <Override PartName="/ppt/media/camera.wav" ContentType="audio/x-wav"/>
  <Override PartName="/ppt/media/image7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F03-81C9-406E-819A-A4008576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622-ED24-4290-B24B-2D1759E9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176-BC2C-4B31-8FD5-7B5FF7E3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0AF-5357-488A-A540-A766F421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6423-9E7F-4F5A-9D0C-63DAC939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BCC6-62BD-4DFC-A64D-07491418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43FA-1BD5-486A-843D-867464D8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9B3F-9783-4967-A974-3FA4774F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5BFC-3AD5-4577-9715-EB8D38B8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0D45-3254-4558-9E11-5BADA762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DF5D-1EB5-44FB-B31D-184B1FE5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DB9-AE79-4B24-9E92-2DE598AC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9F53-212D-4702-8C8B-39F6ACE8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C533-1744-48C2-94E5-BB1C7260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D276-18DD-41B9-A408-038280A0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C6CD-0CB4-4AF0-98E4-FD39C9EC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A61D-7CF9-49AA-B182-DFD88336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61A-93B0-48E1-9525-B19BF741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458-2640-4BE8-AC55-ED5D4629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69D-04E4-488B-BD14-F259281A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492-D72E-4005-ABC7-5E54B8D6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B025-AAC5-48FB-98CE-25A7B1B2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FAC-1EF2-4A05-9779-0400B479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0D3-845C-47AA-9487-E982B18F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0105-F435-4586-B099-DF2A95226796}" type="slidenum">
              <a:rPr b="0" lang="en-A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6735-2CC0-4145-8443-C3337DD43C30}" type="slidenum">
              <a:rPr b="0" lang="en-A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1294920"/>
            <a:ext cx="6363000" cy="838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FAIR CH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7480" y="2666880"/>
            <a:ext cx="7772400" cy="411480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mote discussion regarding selection in an organis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ghlight EEO iss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dentify that selection is an on-going process with a wide impact on the organis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dentify the need to develop a selection crite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vide a framework for selecting staff in an organis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7238880" y="1295280"/>
            <a:ext cx="1981440" cy="190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eps in a typical selection proce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828800" y="2514600"/>
            <a:ext cx="3276720" cy="60948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3333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ceive applic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2209680" y="3352680"/>
            <a:ext cx="3200400" cy="60984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3333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heck against crite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2895480" y="4191120"/>
            <a:ext cx="3048120" cy="60948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3333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sychological tes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3581280" y="5029200"/>
            <a:ext cx="2667240" cy="60948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3333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terview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5105520" y="6324480"/>
            <a:ext cx="2971800" cy="38124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3333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lection decis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4495680" y="5791320"/>
            <a:ext cx="2971800" cy="38088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3333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ference chec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7696080" y="2666880"/>
            <a:ext cx="1219320" cy="3886200"/>
          </a:xfrm>
          <a:prstGeom prst="upDownArrow">
            <a:avLst>
              <a:gd name="adj1" fmla="val 50000"/>
              <a:gd name="adj2" fmla="val 634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ANY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409760" y="762120"/>
            <a:ext cx="6362640" cy="838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FAIR CH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095880" y="2743200"/>
            <a:ext cx="1600200" cy="1600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2743200"/>
            <a:ext cx="7772400" cy="411480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gment 1- Introduc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hat experiences have you had with interview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w do you prepare for an interview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s an interview the best way to select employe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Is the outcome decided within the first 30 secon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Can you be too relaxed for an interview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For applicants “it’s not what you say but how you say it” … What do you thinks? What is being assessed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409760" y="762120"/>
            <a:ext cx="636264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FAIR CHANCE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858000" y="1295280"/>
            <a:ext cx="1752480" cy="1828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7886880" cy="449568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gment 2 - Setting the criter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hat is a selection criteria? What value has it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w do job descriptions/specifications help define the selection criteria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Anna knows what she wants. Is Jean right to pull her about this – as a supervisor of the area what right does she have to select who she want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Selection criteria is restrictive says Bob … Is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tru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Are there topics that should not be included in selection crite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4572000" y="5791320"/>
            <a:ext cx="3809880" cy="838080"/>
          </a:xfrm>
          <a:prstGeom prst="rightArrow">
            <a:avLst>
              <a:gd name="adj1" fmla="val 50000"/>
              <a:gd name="adj2" fmla="val 113649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3333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lection Criteria exercis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409760" y="762120"/>
            <a:ext cx="6362640" cy="838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FAIR CH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467480" y="914400"/>
            <a:ext cx="1676520" cy="190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7120" y="1999800"/>
            <a:ext cx="7872480" cy="471492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gment 3 – Preparing for the Intervie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 you prepare questions before the interview – why or why not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e there questions you should not ask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hat type of question is 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osed - Requires a yes/no answ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pen - Requires an expansive answ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bing – requires further clarification – more detai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ehavioural – past experience is a good indicator for future performance that seeks previous experien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762120"/>
            <a:ext cx="6363000" cy="838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FAIR CH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705720" y="914400"/>
            <a:ext cx="2057400" cy="1752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2514600"/>
            <a:ext cx="7772400" cy="411480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gment 3 continu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How successful were Bob and Anna in resolving their differences before the interview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What do you think of Bob’s suggestion to start off the interview with a question about their previous work experience? Is Anna right for criticizing Bob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How do you assess experienc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How important is personality? Is it fair to expect someone to fit in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80520" y="990720"/>
            <a:ext cx="6363000" cy="838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FAIR CH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400800" y="838080"/>
            <a:ext cx="190512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gment 4 – the Interview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en – internal applica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lene – external intervie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anessa - external intervie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iros - internal intervie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gela - external intervie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hat struck you about the interview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the applicant prepared well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s it the committee’s responsibility to put the applicant at eas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409760" y="762120"/>
            <a:ext cx="6362640" cy="838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FAIR CH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6400800" y="2514600"/>
            <a:ext cx="2286000" cy="190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257480" y="1980720"/>
            <a:ext cx="7772400" cy="487692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gment 5 – Coming to a decis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s there a process / procedure for deciding who is the best person for the job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hat issues arise when you are making selection decision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Write down who you think should get the job. Why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How would you counsel each of the unsuccessful applicant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Have you any other comments to make about the selection process?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E.g. is the committee method better than  one on on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762120" y="914400"/>
            <a:ext cx="6362640" cy="838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 FAIR CH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7315200" y="685800"/>
            <a:ext cx="175248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77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3T23:11:02Z</dcterms:created>
  <dc:creator>John McDonald</dc:creator>
  <dc:description/>
  <dc:language>en-US</dc:language>
  <cp:lastModifiedBy>John</cp:lastModifiedBy>
  <dcterms:modified xsi:type="dcterms:W3CDTF">2009-09-14T04:19:42Z</dcterms:modified>
  <cp:revision>8</cp:revision>
  <dc:subject/>
  <dc:title>A FAIR CHANCE</dc:title>
</cp:coreProperties>
</file>